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941B-39AF-4712-880E-6E6D0318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F4DE-5086-4B9F-8400-99D1F277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186D-F83A-458C-B44A-9A5CD330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D524-BA76-4299-B2E8-F3838F54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256-53BD-4433-9B9F-DA47C813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6612-E21B-4211-9216-017BB148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6E93-07F5-46C4-9632-9D1123AF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F422-0359-4368-8D34-FD9EAE93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8517-8C4A-4E1C-A26D-63FFEED7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4B9B-B143-4007-8CBF-1F91149A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7F0F-5AC2-462D-BA44-B5CBAEFA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65AE-4941-400C-A921-7E0CF703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5926-3644-46A1-B57C-9A085810C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hyperlink" Target="http://www.freeplaymusic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eb.mit.edu/invent/iow/nobel.html" TargetMode="External"/><Relationship Id="rId3" Type="http://schemas.openxmlformats.org/officeDocument/2006/relationships/image" Target="../media/image1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90920" y="762120"/>
            <a:ext cx="411480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DYNAMITE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6172200" y="457200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15000" y="5029200"/>
            <a:ext cx="1905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bias D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15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#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3276360" cy="2130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934320" y="1981080"/>
            <a:ext cx="1757160" cy="1954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57600" y="42670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: Alfred Nob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248520"/>
            <a:ext cx="4724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imator 30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9/23/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Adler"/>
          <p:cNvPicPr/>
          <p:nvPr/>
        </p:nvPicPr>
        <p:blipFill>
          <a:blip r:embed="rId1"/>
          <a:stretch/>
        </p:blipFill>
        <p:spPr>
          <a:xfrm>
            <a:off x="228600" y="1593720"/>
            <a:ext cx="8305920" cy="256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66680" y="4648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s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fred Nobe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. 19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nobe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76212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fred Nobel invented Dynam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629400" y="4952880"/>
            <a:ext cx="2286000" cy="1486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481880" y="0"/>
            <a:ext cx="1251000" cy="1295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0" y="5410080"/>
            <a:ext cx="1397160" cy="1447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152280" y="457200"/>
            <a:ext cx="1249560" cy="812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Dynam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64, Alfred Nobel founded Nitroglycerin AB in Stockholm, Swe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65, he built the Alfred Nobel CO. factory in Krumel near Hamburg, Germa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66, he established the United States Blasting Oil company in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70, he established the societe general pour la fabrication de la dynamite in Paris, Fr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50000" y="5334120"/>
            <a:ext cx="962280" cy="1295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5316480"/>
            <a:ext cx="917640" cy="1236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467480" y="304920"/>
            <a:ext cx="860400" cy="1158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85800" y="152280"/>
            <a:ext cx="1030320" cy="138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Alfred No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fred Nobel was born in October 21,183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fred Nobel was born in Stockholm, Swe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lfred Nobel was nine he moved to Rus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fred learned to speak Swedish, Russian, French, English, and Ger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fred Nobel died in 189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248520" y="5272200"/>
            <a:ext cx="2520720" cy="1585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074600" cy="1447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57200" y="228600"/>
            <a:ext cx="917640" cy="1235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80880" y="5791320"/>
            <a:ext cx="79236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4:00:33Z</dcterms:created>
  <dc:creator>install</dc:creator>
  <dc:description/>
  <dc:language>en-US</dc:language>
  <cp:lastModifiedBy>install</cp:lastModifiedBy>
  <dcterms:modified xsi:type="dcterms:W3CDTF">2011-09-26T13:56:41Z</dcterms:modified>
  <cp:revision>7</cp:revision>
  <dc:subject/>
  <dc:title>Slide 1</dc:title>
</cp:coreProperties>
</file>